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7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0BFA-2285-4958-B94B-39C892BE25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6C88-0E04-422E-AA31-CEE0081C38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171F-9564-4373-AAAE-A9ACA103AB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B8DC-538A-4978-B68B-C0B99BD31E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1582-1C9C-49A4-8B8A-036AE22CE7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4E60-E6E0-4C66-A7FD-47F01A5392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55D6-DB07-44C7-843E-F9555F9ACA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0D91-9818-4D89-8320-F2F259DE57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27F0-CAE4-4586-8B81-D8AEA8A878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9C29-3732-4B78-BADA-38EA837DD1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4C84-890B-4758-8863-F5E245F6DE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9BB5-50D4-4D8C-AFAB-9C59856857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49DD-31E8-4068-BA5A-947AE73A23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A3E6-AEA0-49BA-A5B6-607B4A66A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A22E-7909-492E-BAFF-2CB748438A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EADD-BF24-4FC3-9170-A79CC56F72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55E5-BC15-41F1-9473-07F56965A9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6E75-3A4A-45E5-AC20-9FE6C266F6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0324-20A8-4A73-BF0F-039F2EB49B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5763-A6D7-4D16-8F67-9D2FD0D5EE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9486-4B31-41A3-915D-DE6FBA17C3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D422-C796-4531-947C-909781A6F0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3C59-1517-4981-8435-C1E7DFB8BF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8DAC-360E-4078-9731-071A860FCF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ED5D-3B2C-40C5-89EA-FC80E48EDF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1501-7739-4923-BB1C-F0732700C3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33E-A93D-4D84-8CE0-D44B88CD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7A6-C8D1-4F97-9831-8664AFA5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D0A-B1F0-43DE-9973-1FDFAA83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291-E2A6-4BFA-B0DA-BC47C551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ECA-ECE4-4FA9-AC15-C0E0AE13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706-56FE-4EDE-B60A-606D90EC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593-A5DD-44A3-A2E2-75187683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815-2F68-45C6-8CF6-A266B1D0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B21-A713-413D-8B10-0EEB1D3C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984-205D-4D2A-B391-F5242B70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6EC-FFCA-42FA-9B8F-50237E0A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77F-BA4D-4BA2-B9D1-47D1210F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5B68-B048-4A89-9FF2-68798936C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ostmortemstudiorental.com/images/Corpses/skeleton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arresstheatre.com/sitebuildercontent/sitebuilderpictures/.pond/DramaMasks1.JPG.w240h166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library.thinkquest.org/TQ0313236/images/SL00712_.gif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athsmania.com.au/images/symbols.gif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athsmania.com.au/images/symbols.gif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library.thinkquest.org/TQ0313236/images/SL00712_.gif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hyperlink" Target="http://www.darresstheatre.com/sitebuildercontent/sitebuilderpictures/.pond/DramaMasks1.JPG.w240h166.jpg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image" Target="../media/image8.jpeg"/><Relationship Id="rId10" Type="http://schemas.openxmlformats.org/officeDocument/2006/relationships/image" Target="../media/image4.jpeg"/><Relationship Id="rId11" Type="http://schemas.openxmlformats.org/officeDocument/2006/relationships/image" Target="../media/image2.jpeg"/><Relationship Id="rId12" Type="http://schemas.openxmlformats.org/officeDocument/2006/relationships/image" Target="../media/image3.jpeg"/><Relationship Id="rId13" Type="http://schemas.openxmlformats.org/officeDocument/2006/relationships/image" Target="../media/image12.jpeg"/><Relationship Id="rId14" Type="http://schemas.openxmlformats.org/officeDocument/2006/relationships/hyperlink" Target="http://www.postmortemstudiorental.com/images/Corpses/skeleton.jpg" TargetMode="External"/><Relationship Id="rId15" Type="http://schemas.openxmlformats.org/officeDocument/2006/relationships/image" Target="../media/image10.jpeg"/><Relationship Id="rId16" Type="http://schemas.openxmlformats.org/officeDocument/2006/relationships/hyperlink" Target="http://www.mopocket.com/graphics/religious%20symbols.JPG" TargetMode="External"/><Relationship Id="rId17" Type="http://schemas.openxmlformats.org/officeDocument/2006/relationships/image" Target="../media/image6.jpeg"/><Relationship Id="rId18" Type="http://schemas.openxmlformats.org/officeDocument/2006/relationships/hyperlink" Target="http://www.easyfunschool.com/images/EFShistory1.jpg" TargetMode="External"/><Relationship Id="rId19" Type="http://schemas.openxmlformats.org/officeDocument/2006/relationships/image" Target="../media/image5.jpeg"/><Relationship Id="rId20" Type="http://schemas.openxmlformats.org/officeDocument/2006/relationships/image" Target="../media/image1.jpeg"/><Relationship Id="rId21" Type="http://schemas.openxmlformats.org/officeDocument/2006/relationships/image" Target="../media/image7.gif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athsmania.com.au/images/symbols.gif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library.thinkquest.org/TQ0313236/images/SL00712_.gif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hyperlink" Target="http://www.darresstheatre.com/sitebuildercontent/sitebuilderpictures/.pond/DramaMasks1.JPG.w240h166.jpg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image" Target="../media/image8.jpeg"/><Relationship Id="rId10" Type="http://schemas.openxmlformats.org/officeDocument/2006/relationships/image" Target="../media/image4.jpeg"/><Relationship Id="rId11" Type="http://schemas.openxmlformats.org/officeDocument/2006/relationships/image" Target="../media/image2.jpeg"/><Relationship Id="rId12" Type="http://schemas.openxmlformats.org/officeDocument/2006/relationships/image" Target="../media/image3.jpeg"/><Relationship Id="rId13" Type="http://schemas.openxmlformats.org/officeDocument/2006/relationships/hyperlink" Target="http://www.postmortemstudiorental.com/images/Corpses/skeleton.jpg" TargetMode="External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athsmania.com.au/images/symbols.gif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athsmania.com.au/images/symbols.gif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library.thinkquest.org/TQ0313236/images/SL00712_.gif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1.jpeg"/><Relationship Id="rId7" Type="http://schemas.openxmlformats.org/officeDocument/2006/relationships/image" Target="../media/image9.jpeg"/><Relationship Id="rId8" Type="http://schemas.openxmlformats.org/officeDocument/2006/relationships/image" Target="../media/image8.jpeg"/><Relationship Id="rId9" Type="http://schemas.openxmlformats.org/officeDocument/2006/relationships/image" Target="../media/image4.jpeg"/><Relationship Id="rId10" Type="http://schemas.openxmlformats.org/officeDocument/2006/relationships/image" Target="../media/image2.jpeg"/><Relationship Id="rId11" Type="http://schemas.openxmlformats.org/officeDocument/2006/relationships/image" Target="../media/image3.jpeg"/><Relationship Id="rId12" Type="http://schemas.openxmlformats.org/officeDocument/2006/relationships/image" Target="../media/image12.jpeg"/><Relationship Id="rId13" Type="http://schemas.openxmlformats.org/officeDocument/2006/relationships/image" Target="../media/image10.jpeg"/><Relationship Id="rId14" Type="http://schemas.openxmlformats.org/officeDocument/2006/relationships/image" Target="../media/image6.jpeg"/><Relationship Id="rId15" Type="http://schemas.openxmlformats.org/officeDocument/2006/relationships/image" Target="../media/image5.jpeg"/><Relationship Id="rId16" Type="http://schemas.openxmlformats.org/officeDocument/2006/relationships/image" Target="../media/image1.jpeg"/><Relationship Id="rId17" Type="http://schemas.openxmlformats.org/officeDocument/2006/relationships/image" Target="../media/image7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asyfunschool.com/images/EFShistory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pocket.com/graphics/religious%20symbols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50920" y="1557360"/>
            <a:ext cx="8497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learn 15 school subjec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play to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play brain gy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116000" y="4046400"/>
            <a:ext cx="729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geograf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í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globe_spinning_on_stacked_books_hg_clr.gif"/>
          <p:cNvPicPr/>
          <p:nvPr/>
        </p:nvPicPr>
        <p:blipFill>
          <a:blip r:embed="rId1"/>
          <a:stretch/>
        </p:blipFill>
        <p:spPr>
          <a:xfrm>
            <a:off x="2857680" y="571680"/>
            <a:ext cx="264312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1400" y="5049720"/>
            <a:ext cx="72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f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ís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einstein"/>
          <p:cNvPicPr/>
          <p:nvPr/>
        </p:nvPicPr>
        <p:blipFill>
          <a:blip r:embed="rId1"/>
          <a:stretch/>
        </p:blipFill>
        <p:spPr>
          <a:xfrm>
            <a:off x="1020600" y="1214280"/>
            <a:ext cx="71028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1400" y="5049720"/>
            <a:ext cx="72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qu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ím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hem10_instrumnts"/>
          <p:cNvPicPr/>
          <p:nvPr/>
        </p:nvPicPr>
        <p:blipFill>
          <a:blip r:embed="rId1"/>
          <a:stretch/>
        </p:blipFill>
        <p:spPr>
          <a:xfrm>
            <a:off x="826920" y="890640"/>
            <a:ext cx="739476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211400" y="5049720"/>
            <a:ext cx="72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biolog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í</a:t>
            </a: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skelet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22800" y="297000"/>
            <a:ext cx="281772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47760" y="5049720"/>
            <a:ext cx="816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dram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t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DramaMasks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5040" y="674640"/>
            <a:ext cx="768204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47760" y="5049720"/>
            <a:ext cx="816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m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ús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MusicNotes.JPG"/>
          <p:cNvPicPr/>
          <p:nvPr/>
        </p:nvPicPr>
        <p:blipFill>
          <a:blip r:embed="rId1"/>
          <a:stretch/>
        </p:blipFill>
        <p:spPr>
          <a:xfrm>
            <a:off x="539640" y="890640"/>
            <a:ext cx="7993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9640" y="4670280"/>
            <a:ext cx="793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inform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t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ict08healthsafety"/>
          <p:cNvPicPr/>
          <p:nvPr/>
        </p:nvPicPr>
        <p:blipFill>
          <a:blip r:embed="rId1"/>
          <a:stretch/>
        </p:blipFill>
        <p:spPr>
          <a:xfrm>
            <a:off x="826920" y="1160640"/>
            <a:ext cx="7682040" cy="36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16000" y="4046400"/>
            <a:ext cx="7297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educaci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ón fís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L00712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08240" y="716040"/>
            <a:ext cx="641484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7760" y="4726080"/>
            <a:ext cx="850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s matem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átic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symbo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155600"/>
            <a:ext cx="70772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6" descr="symbo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765000"/>
            <a:ext cx="1873440" cy="80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SL00712_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765000"/>
            <a:ext cx="1463760" cy="722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ict08healthsafety"/>
          <p:cNvPicPr/>
          <p:nvPr/>
        </p:nvPicPr>
        <p:blipFill>
          <a:blip r:embed="rId5"/>
          <a:stretch/>
        </p:blipFill>
        <p:spPr>
          <a:xfrm>
            <a:off x="4859280" y="692280"/>
            <a:ext cx="1657440" cy="784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1" descr="DramaMasks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5280" y="1916280"/>
            <a:ext cx="1776600" cy="78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chem10_instrumnts"/>
          <p:cNvPicPr/>
          <p:nvPr/>
        </p:nvPicPr>
        <p:blipFill>
          <a:blip r:embed="rId8"/>
          <a:stretch/>
        </p:blipFill>
        <p:spPr>
          <a:xfrm>
            <a:off x="2627280" y="1844640"/>
            <a:ext cx="1657440" cy="820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3" descr="einstein"/>
          <p:cNvPicPr/>
          <p:nvPr/>
        </p:nvPicPr>
        <p:blipFill>
          <a:blip r:embed="rId9"/>
          <a:stretch/>
        </p:blipFill>
        <p:spPr>
          <a:xfrm>
            <a:off x="6877080" y="765000"/>
            <a:ext cx="1606680" cy="723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04kennedy"/>
          <p:cNvPicPr/>
          <p:nvPr/>
        </p:nvPicPr>
        <p:blipFill>
          <a:blip r:embed="rId10"/>
          <a:stretch/>
        </p:blipFill>
        <p:spPr>
          <a:xfrm>
            <a:off x="6804000" y="1989000"/>
            <a:ext cx="1943280" cy="752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5" descr="shakespeare_acting_hg_wht_17749"/>
          <p:cNvPicPr/>
          <p:nvPr/>
        </p:nvPicPr>
        <p:blipFill>
          <a:blip r:embed="rId11"/>
          <a:stretch/>
        </p:blipFill>
        <p:spPr>
          <a:xfrm>
            <a:off x="4643280" y="1844640"/>
            <a:ext cx="1824120" cy="895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French-flag"/>
          <p:cNvPicPr/>
          <p:nvPr/>
        </p:nvPicPr>
        <p:blipFill>
          <a:blip r:embed="rId12"/>
          <a:stretch/>
        </p:blipFill>
        <p:spPr>
          <a:xfrm>
            <a:off x="1214280" y="3000240"/>
            <a:ext cx="2065320" cy="771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MusicNotes.JPG"/>
          <p:cNvPicPr/>
          <p:nvPr/>
        </p:nvPicPr>
        <p:blipFill>
          <a:blip r:embed="rId13"/>
          <a:stretch/>
        </p:blipFill>
        <p:spPr>
          <a:xfrm>
            <a:off x="4000680" y="3000240"/>
            <a:ext cx="2016000" cy="849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9" descr="skeleton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164360" y="2997360"/>
            <a:ext cx="898560" cy="1500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0" descr="religious%2520symbols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95280" y="4076640"/>
            <a:ext cx="2038320" cy="89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1" descr="EFShistory1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268360" y="3933720"/>
            <a:ext cx="2303640" cy="1148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2" descr="1600367-Spanish_flag-Spain"/>
          <p:cNvPicPr/>
          <p:nvPr/>
        </p:nvPicPr>
        <p:blipFill>
          <a:blip r:embed="rId20"/>
          <a:stretch/>
        </p:blipFill>
        <p:spPr>
          <a:xfrm>
            <a:off x="4356000" y="4005360"/>
            <a:ext cx="2255760" cy="10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globe_spinning_on_stacked_books_hg_clr.gif"/>
          <p:cNvPicPr/>
          <p:nvPr/>
        </p:nvPicPr>
        <p:blipFill>
          <a:blip r:embed="rId21"/>
          <a:stretch/>
        </p:blipFill>
        <p:spPr>
          <a:xfrm>
            <a:off x="7891560" y="3786120"/>
            <a:ext cx="12524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9640" y="2349360"/>
          <a:ext cx="8209080" cy="319104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asignatu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19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6" descr="symbo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125360"/>
            <a:ext cx="1873080" cy="801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7"/>
          <p:cNvSpPr/>
          <p:nvPr/>
        </p:nvSpPr>
        <p:spPr>
          <a:xfrm>
            <a:off x="4211640" y="530064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95640" y="530064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9" descr="SL00712_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125360"/>
            <a:ext cx="1463760" cy="72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ict08healthsafety"/>
          <p:cNvPicPr/>
          <p:nvPr/>
        </p:nvPicPr>
        <p:blipFill>
          <a:blip r:embed="rId5"/>
          <a:stretch/>
        </p:blipFill>
        <p:spPr>
          <a:xfrm>
            <a:off x="4932360" y="2205000"/>
            <a:ext cx="1657440" cy="784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1" descr="DramaMasks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2205000"/>
            <a:ext cx="1776240" cy="787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chem10_instrumnts"/>
          <p:cNvPicPr/>
          <p:nvPr/>
        </p:nvPicPr>
        <p:blipFill>
          <a:blip r:embed="rId8"/>
          <a:stretch/>
        </p:blipFill>
        <p:spPr>
          <a:xfrm>
            <a:off x="468360" y="3284640"/>
            <a:ext cx="1657440" cy="820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einstein"/>
          <p:cNvPicPr/>
          <p:nvPr/>
        </p:nvPicPr>
        <p:blipFill>
          <a:blip r:embed="rId9"/>
          <a:stretch/>
        </p:blipFill>
        <p:spPr>
          <a:xfrm>
            <a:off x="5003640" y="3357720"/>
            <a:ext cx="1606680" cy="723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4" descr="04kennedy"/>
          <p:cNvPicPr/>
          <p:nvPr/>
        </p:nvPicPr>
        <p:blipFill>
          <a:blip r:embed="rId10"/>
          <a:stretch/>
        </p:blipFill>
        <p:spPr>
          <a:xfrm>
            <a:off x="5003640" y="4365720"/>
            <a:ext cx="1943280" cy="752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5" descr="shakespeare_acting_hg_wht_17749"/>
          <p:cNvPicPr/>
          <p:nvPr/>
        </p:nvPicPr>
        <p:blipFill>
          <a:blip r:embed="rId11"/>
          <a:stretch/>
        </p:blipFill>
        <p:spPr>
          <a:xfrm>
            <a:off x="324000" y="4292640"/>
            <a:ext cx="1823760" cy="895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French-flag"/>
          <p:cNvPicPr/>
          <p:nvPr/>
        </p:nvPicPr>
        <p:blipFill>
          <a:blip r:embed="rId12"/>
          <a:stretch/>
        </p:blipFill>
        <p:spPr>
          <a:xfrm>
            <a:off x="4932360" y="5229360"/>
            <a:ext cx="2065320" cy="77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skeleton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071720" y="5286240"/>
            <a:ext cx="6429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symbo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7429680" y="998640"/>
            <a:ext cx="7075800" cy="3030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MusicNotes.JPG"/>
          <p:cNvPicPr/>
          <p:nvPr/>
        </p:nvPicPr>
        <p:blipFill>
          <a:blip r:embed="rId3"/>
          <a:stretch/>
        </p:blipFill>
        <p:spPr>
          <a:xfrm>
            <a:off x="9564840" y="3486240"/>
            <a:ext cx="7993080" cy="337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ict08healthsafety"/>
          <p:cNvPicPr/>
          <p:nvPr/>
        </p:nvPicPr>
        <p:blipFill>
          <a:blip r:embed="rId4"/>
          <a:stretch/>
        </p:blipFill>
        <p:spPr>
          <a:xfrm>
            <a:off x="-8101080" y="-998640"/>
            <a:ext cx="7682040" cy="3632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1600367-Spanish_flag-Spain"/>
          <p:cNvPicPr/>
          <p:nvPr/>
        </p:nvPicPr>
        <p:blipFill>
          <a:blip r:embed="rId5"/>
          <a:stretch/>
        </p:blipFill>
        <p:spPr>
          <a:xfrm>
            <a:off x="9755280" y="1432080"/>
            <a:ext cx="68166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24 3.61111E-006 C 0.26481 -0.10417 0.53032 -0.20816 0.69698 -0.16337 C 0.86365 -0.11858 1.15671 0.15035 0.99953 0.26927 C 0.84235 0.38819 -0.03288 0.51476 -0.24653 0.55 C -0.46019 0.58524 -0.37153 0.53299 -0.28265 0.48073 E">
                                      <p:cBhvr>
                                        <p:cTn id="2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9259E-006 -3.05556E-006 C -0.37338 0.09358 -0.74675 0.18715 -0.87963 0.13073 C -1.0125 0.07431 -0.78032 -0.24392 -0.79745 -0.33837 C -0.81458 -0.43281 -1.17013 -0.39028 -0.98217 -0.43646 C -0.79421 -0.48264 -0.23171 -0.54913 0.33079 -0.61545 E">
                                      <p:cBhvr>
                                        <p:cTn id="2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218 -0.02066 C 0.82569 0.17587 0.96944 0.37239 1.21805 0.40434 C 1.46667 0.43628 1.8206 0.30382 2.17454 0.17153 E">
                                      <p:cBhvr>
                                        <p:cTn id="2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759 0.00365 C -0.70625 -0.22153 -1.09467 -0.4467 -1.17407 -0.40017 C -1.25347 -0.35364 -0.66041 0.17934 -0.79467 0.28247 C -0.92893 0.38559 -1.45416 0.30226 -1.97916 0.2191 E">
                                      <p:cBhvr>
                                        <p:cTn id="3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00040" y="571320"/>
            <a:ext cx="8229600" cy="41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¿Cuál es tu asignatura favori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 asignatura favorita 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oy de acuer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estoy de acuer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don’t a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co buenas notas e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co malas notas e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writing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539640" y="2349360"/>
          <a:ext cx="8209080" cy="319104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asignatu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25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6" descr="symbo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765000"/>
            <a:ext cx="1873440" cy="801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SL00712_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765000"/>
            <a:ext cx="1463760" cy="72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ict08healthsafety"/>
          <p:cNvPicPr/>
          <p:nvPr/>
        </p:nvPicPr>
        <p:blipFill>
          <a:blip r:embed="rId5"/>
          <a:stretch/>
        </p:blipFill>
        <p:spPr>
          <a:xfrm>
            <a:off x="4859280" y="692280"/>
            <a:ext cx="1657440" cy="784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DramaMasks1"/>
          <p:cNvPicPr/>
          <p:nvPr/>
        </p:nvPicPr>
        <p:blipFill>
          <a:blip r:embed="rId6"/>
          <a:stretch/>
        </p:blipFill>
        <p:spPr>
          <a:xfrm>
            <a:off x="395280" y="1916280"/>
            <a:ext cx="1776600" cy="787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2" descr="chem10_instrumnts"/>
          <p:cNvPicPr/>
          <p:nvPr/>
        </p:nvPicPr>
        <p:blipFill>
          <a:blip r:embed="rId7"/>
          <a:stretch/>
        </p:blipFill>
        <p:spPr>
          <a:xfrm>
            <a:off x="2627280" y="1844640"/>
            <a:ext cx="1657440" cy="820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einstein"/>
          <p:cNvPicPr/>
          <p:nvPr/>
        </p:nvPicPr>
        <p:blipFill>
          <a:blip r:embed="rId8"/>
          <a:stretch/>
        </p:blipFill>
        <p:spPr>
          <a:xfrm>
            <a:off x="6877080" y="765000"/>
            <a:ext cx="1606680" cy="723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04kennedy"/>
          <p:cNvPicPr/>
          <p:nvPr/>
        </p:nvPicPr>
        <p:blipFill>
          <a:blip r:embed="rId9"/>
          <a:stretch/>
        </p:blipFill>
        <p:spPr>
          <a:xfrm>
            <a:off x="6804000" y="1989000"/>
            <a:ext cx="1943280" cy="752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shakespeare_acting_hg_wht_17749"/>
          <p:cNvPicPr/>
          <p:nvPr/>
        </p:nvPicPr>
        <p:blipFill>
          <a:blip r:embed="rId10"/>
          <a:stretch/>
        </p:blipFill>
        <p:spPr>
          <a:xfrm>
            <a:off x="4643280" y="1844640"/>
            <a:ext cx="1824120" cy="895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7" descr="French-flag"/>
          <p:cNvPicPr/>
          <p:nvPr/>
        </p:nvPicPr>
        <p:blipFill>
          <a:blip r:embed="rId11"/>
          <a:stretch/>
        </p:blipFill>
        <p:spPr>
          <a:xfrm>
            <a:off x="1214280" y="3000240"/>
            <a:ext cx="2065320" cy="771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8" descr="MusicNotes.JPG"/>
          <p:cNvPicPr/>
          <p:nvPr/>
        </p:nvPicPr>
        <p:blipFill>
          <a:blip r:embed="rId12"/>
          <a:stretch/>
        </p:blipFill>
        <p:spPr>
          <a:xfrm>
            <a:off x="4000680" y="3000240"/>
            <a:ext cx="2016000" cy="84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9" descr="skeleton"/>
          <p:cNvPicPr/>
          <p:nvPr/>
        </p:nvPicPr>
        <p:blipFill>
          <a:blip r:embed="rId13"/>
          <a:stretch/>
        </p:blipFill>
        <p:spPr>
          <a:xfrm>
            <a:off x="7164360" y="2997360"/>
            <a:ext cx="898560" cy="1500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0" descr="religious%2520symbols"/>
          <p:cNvPicPr/>
          <p:nvPr/>
        </p:nvPicPr>
        <p:blipFill>
          <a:blip r:embed="rId14"/>
          <a:stretch/>
        </p:blipFill>
        <p:spPr>
          <a:xfrm>
            <a:off x="395280" y="4076640"/>
            <a:ext cx="2038320" cy="898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1" descr="EFShistory1"/>
          <p:cNvPicPr/>
          <p:nvPr/>
        </p:nvPicPr>
        <p:blipFill>
          <a:blip r:embed="rId15"/>
          <a:stretch/>
        </p:blipFill>
        <p:spPr>
          <a:xfrm>
            <a:off x="2268360" y="3933720"/>
            <a:ext cx="2303640" cy="1148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2" descr="1600367-Spanish_flag-Spain"/>
          <p:cNvPicPr/>
          <p:nvPr/>
        </p:nvPicPr>
        <p:blipFill>
          <a:blip r:embed="rId16"/>
          <a:stretch/>
        </p:blipFill>
        <p:spPr>
          <a:xfrm>
            <a:off x="4356000" y="4005360"/>
            <a:ext cx="2255760" cy="10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globe_spinning_on_stacked_books_hg_clr.gif"/>
          <p:cNvPicPr/>
          <p:nvPr/>
        </p:nvPicPr>
        <p:blipFill>
          <a:blip r:embed="rId17"/>
          <a:stretch/>
        </p:blipFill>
        <p:spPr>
          <a:xfrm>
            <a:off x="7891560" y="3786120"/>
            <a:ext cx="12524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s asignatur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Comic Sans MS"/>
              </a:rPr>
              <a:t>The school subje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600367-Spanish_flag-Spain"/>
          <p:cNvPicPr/>
          <p:nvPr/>
        </p:nvPicPr>
        <p:blipFill>
          <a:blip r:embed="rId1"/>
          <a:stretch/>
        </p:blipFill>
        <p:spPr>
          <a:xfrm>
            <a:off x="1308240" y="1376280"/>
            <a:ext cx="6815160" cy="3265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211400" y="5049720"/>
            <a:ext cx="72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l espa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  <a:ea typeface="Arial"/>
              </a:rPr>
              <a:t>ño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1211400" y="5049720"/>
            <a:ext cx="72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l ingl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é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hakespeare_acting_hg_wht_17749"/>
          <p:cNvPicPr/>
          <p:nvPr/>
        </p:nvPicPr>
        <p:blipFill>
          <a:blip r:embed="rId1"/>
          <a:stretch/>
        </p:blipFill>
        <p:spPr>
          <a:xfrm>
            <a:off x="1308240" y="944640"/>
            <a:ext cx="62402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1211400" y="5049720"/>
            <a:ext cx="72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l franc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é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rench-flag"/>
          <p:cNvPicPr/>
          <p:nvPr/>
        </p:nvPicPr>
        <p:blipFill>
          <a:blip r:embed="rId1"/>
          <a:stretch/>
        </p:blipFill>
        <p:spPr>
          <a:xfrm>
            <a:off x="922320" y="1432080"/>
            <a:ext cx="739476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84360" y="393372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el ar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4kennedy"/>
          <p:cNvPicPr/>
          <p:nvPr/>
        </p:nvPicPr>
        <p:blipFill>
          <a:blip r:embed="rId1"/>
          <a:stretch/>
        </p:blipFill>
        <p:spPr>
          <a:xfrm>
            <a:off x="1116000" y="1160640"/>
            <a:ext cx="69120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1400" y="5049720"/>
            <a:ext cx="72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histor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EFShistory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98640"/>
            <a:ext cx="9144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1400" y="5049720"/>
            <a:ext cx="72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la religi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ó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religious%2520symbo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20600" y="1160640"/>
            <a:ext cx="69422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4:57:28Z</dcterms:created>
  <dc:creator>Chris Fuller</dc:creator>
  <dc:description/>
  <dc:language>en-US</dc:language>
  <cp:lastModifiedBy>Chris</cp:lastModifiedBy>
  <dcterms:modified xsi:type="dcterms:W3CDTF">2009-05-06T08:53:34Z</dcterms:modified>
  <cp:revision>14</cp:revision>
  <dc:subject/>
  <dc:title>Slide 1</dc:title>
</cp:coreProperties>
</file>